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4C7-BD30-4039-BC51-C3024B460C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8BC7-0382-4590-814B-8FA0B2FB9E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7E5E-2C63-4742-8275-422AFE79E9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05E-6846-4A8E-968D-B0D58937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07C-7291-491A-AAC1-3E5EBBE2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BC7-4775-4D73-A719-6F025283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A08-E7B8-497E-AE5A-354F6A50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003-EA7F-416A-A4FD-3BB5D30F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228-2BF4-4208-8B20-7D54E76F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9E2-DC9D-4694-AE31-ABE84A95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E63-6328-48F5-942D-9EC379E9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620-1109-4851-9A61-B20C50D0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029-0878-4FE8-AAFB-C9996FA4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7AA-B763-47D8-A56F-6849604F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767-BE6B-44CB-B9B0-9D11159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5C74-DECE-441A-B187-947B7D9F7D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package" Target="../embeddings/oleObject5.docx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3.wmf"/><Relationship Id="rId7" Type="http://schemas.openxmlformats.org/officeDocument/2006/relationships/package" Target="../embeddings/oleObject1.docx"/><Relationship Id="rId8" Type="http://schemas.openxmlformats.org/officeDocument/2006/relationships/image" Target="../media/image14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5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059280" y="350028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3.1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定积分的微元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755640" y="765000"/>
          <a:ext cx="7815240" cy="122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765000"/>
                    <a:ext cx="78152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9"/>
          <p:cNvGraphicFramePr/>
          <p:nvPr/>
        </p:nvGraphicFramePr>
        <p:xfrm>
          <a:off x="395280" y="1773360"/>
          <a:ext cx="7921800" cy="1871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4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773360"/>
                    <a:ext cx="79218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0"/>
          <p:cNvGraphicFramePr/>
          <p:nvPr/>
        </p:nvGraphicFramePr>
        <p:xfrm>
          <a:off x="468360" y="3645000"/>
          <a:ext cx="6191280" cy="18302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645000"/>
                    <a:ext cx="6191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1"/>
          <p:cNvGraphicFramePr/>
          <p:nvPr/>
        </p:nvGraphicFramePr>
        <p:xfrm>
          <a:off x="395280" y="5013360"/>
          <a:ext cx="7777080" cy="16398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78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5280" y="5013360"/>
                    <a:ext cx="7777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41"/>
          <p:cNvGrpSpPr/>
          <p:nvPr/>
        </p:nvGrpSpPr>
        <p:grpSpPr>
          <a:xfrm>
            <a:off x="5796000" y="2708280"/>
            <a:ext cx="3048120" cy="2665440"/>
            <a:chOff x="5796000" y="2708280"/>
            <a:chExt cx="3048120" cy="2665440"/>
          </a:xfrm>
        </p:grpSpPr>
        <p:grpSp>
          <p:nvGrpSpPr>
            <p:cNvPr id="82" name="Group 38"/>
            <p:cNvGrpSpPr/>
            <p:nvPr/>
          </p:nvGrpSpPr>
          <p:grpSpPr>
            <a:xfrm>
              <a:off x="5796000" y="2708280"/>
              <a:ext cx="3048120" cy="2423160"/>
              <a:chOff x="5796000" y="2708280"/>
              <a:chExt cx="3048120" cy="2423160"/>
            </a:xfrm>
          </p:grpSpPr>
          <p:sp>
            <p:nvSpPr>
              <p:cNvPr id="83" name="Text Box 40"/>
              <p:cNvSpPr/>
              <p:nvPr/>
            </p:nvSpPr>
            <p:spPr>
              <a:xfrm>
                <a:off x="6872400" y="4525560"/>
                <a:ext cx="5086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Picture 39" descr=""/>
              <p:cNvPicPr/>
              <p:nvPr/>
            </p:nvPicPr>
            <p:blipFill>
              <a:blip r:embed="rId14"/>
              <a:stretch/>
            </p:blipFill>
            <p:spPr>
              <a:xfrm>
                <a:off x="5796000" y="2708280"/>
                <a:ext cx="3048120" cy="2350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85" name="Object 47"/>
            <p:cNvGraphicFramePr/>
            <p:nvPr/>
          </p:nvGraphicFramePr>
          <p:xfrm>
            <a:off x="6966360" y="4727520"/>
            <a:ext cx="304560" cy="646200"/>
          </p:xfrm>
          <a:graphic>
            <a:graphicData uri="http://schemas.openxmlformats.org/presentationml/2006/ole">
              <p:oleObj progId="Word.Document.12" r:id="rId15" spid="">
                <p:embed/>
                <p:pic>
                  <p:nvPicPr>
                    <p:cNvPr id="86" name="Object 4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66360" y="4727520"/>
                      <a:ext cx="304560" cy="6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7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4" descr=""/>
          <p:cNvPicPr/>
          <p:nvPr/>
        </p:nvPicPr>
        <p:blipFill>
          <a:blip r:embed="rId6"/>
          <a:stretch/>
        </p:blipFill>
        <p:spPr>
          <a:xfrm>
            <a:off x="5651640" y="2492280"/>
            <a:ext cx="3292200" cy="2381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6"/>
          <p:cNvGraphicFramePr/>
          <p:nvPr/>
        </p:nvGraphicFramePr>
        <p:xfrm>
          <a:off x="468360" y="907920"/>
          <a:ext cx="8136000" cy="27212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3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907920"/>
                    <a:ext cx="813600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47"/>
          <p:cNvGraphicFramePr/>
          <p:nvPr/>
        </p:nvGraphicFramePr>
        <p:xfrm>
          <a:off x="826920" y="4221000"/>
          <a:ext cx="3457800" cy="10544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15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4221000"/>
                    <a:ext cx="3457800" cy="10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2050920" y="5013360"/>
          <a:ext cx="2305080" cy="84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13360"/>
                    <a:ext cx="23050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直接连接符 47"/>
          <p:cNvSpPr/>
          <p:nvPr/>
        </p:nvSpPr>
        <p:spPr>
          <a:xfrm>
            <a:off x="2124000" y="314172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11"/>
          <p:cNvGraphicFramePr/>
          <p:nvPr/>
        </p:nvGraphicFramePr>
        <p:xfrm>
          <a:off x="2195640" y="3284640"/>
          <a:ext cx="2604960" cy="87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5640" y="3284640"/>
                    <a:ext cx="2604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直接连接符 53"/>
          <p:cNvSpPr/>
          <p:nvPr/>
        </p:nvSpPr>
        <p:spPr>
          <a:xfrm>
            <a:off x="468360" y="2565360"/>
            <a:ext cx="57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肘形连接符 54"/>
          <p:cNvCxnSpPr/>
          <p:nvPr/>
        </p:nvCxnSpPr>
        <p:spPr>
          <a:xfrm>
            <a:off x="1187280" y="2637000"/>
            <a:ext cx="2593440" cy="288000"/>
          </a:xfrm>
          <a:prstGeom prst="bentConnector3">
            <a:avLst>
              <a:gd name="adj1" fmla="val 84700"/>
            </a:avLst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graphicFrame>
        <p:nvGraphicFramePr>
          <p:cNvPr id="124" name="Object 12"/>
          <p:cNvGraphicFramePr/>
          <p:nvPr/>
        </p:nvGraphicFramePr>
        <p:xfrm>
          <a:off x="3851280" y="2708280"/>
          <a:ext cx="1886040" cy="826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51280" y="2708280"/>
                    <a:ext cx="18860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1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Object 2"/>
          <p:cNvGraphicFramePr/>
          <p:nvPr/>
        </p:nvGraphicFramePr>
        <p:xfrm>
          <a:off x="395280" y="981000"/>
          <a:ext cx="7932600" cy="935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981000"/>
                    <a:ext cx="79326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2"/>
          <p:cNvGraphicFramePr/>
          <p:nvPr/>
        </p:nvGraphicFramePr>
        <p:xfrm>
          <a:off x="468360" y="2133720"/>
          <a:ext cx="8207280" cy="718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2133720"/>
                    <a:ext cx="82072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"/>
          <p:cNvGraphicFramePr/>
          <p:nvPr/>
        </p:nvGraphicFramePr>
        <p:xfrm>
          <a:off x="546120" y="3208320"/>
          <a:ext cx="8129520" cy="23814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6120" y="3208320"/>
                    <a:ext cx="81295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1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7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7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7"/>
          <p:cNvGraphicFramePr/>
          <p:nvPr/>
        </p:nvGraphicFramePr>
        <p:xfrm>
          <a:off x="539640" y="836640"/>
          <a:ext cx="5589720" cy="714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7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836640"/>
                    <a:ext cx="55897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7"/>
          <p:cNvGraphicFramePr/>
          <p:nvPr/>
        </p:nvGraphicFramePr>
        <p:xfrm>
          <a:off x="2071800" y="4929120"/>
          <a:ext cx="4672080" cy="1349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9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1800" y="4929120"/>
                    <a:ext cx="46720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7"/>
          <p:cNvGraphicFramePr/>
          <p:nvPr/>
        </p:nvGraphicFramePr>
        <p:xfrm>
          <a:off x="468360" y="1484280"/>
          <a:ext cx="8272440" cy="10810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81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1484280"/>
                    <a:ext cx="82724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7"/>
          <p:cNvGraphicFramePr/>
          <p:nvPr/>
        </p:nvGraphicFramePr>
        <p:xfrm>
          <a:off x="468360" y="2637000"/>
          <a:ext cx="8183520" cy="11523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83" name="Object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8360" y="2637000"/>
                    <a:ext cx="81835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27"/>
          <p:cNvGraphicFramePr/>
          <p:nvPr/>
        </p:nvGraphicFramePr>
        <p:xfrm>
          <a:off x="500040" y="4786200"/>
          <a:ext cx="7950240" cy="151308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85" name="Object 2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0040" y="4786200"/>
                    <a:ext cx="795024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2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0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Object 2"/>
          <p:cNvGraphicFramePr/>
          <p:nvPr/>
        </p:nvGraphicFramePr>
        <p:xfrm>
          <a:off x="826920" y="1341360"/>
          <a:ext cx="7632720" cy="4380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341360"/>
                    <a:ext cx="7632720" cy="43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2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0"/>
          <p:cNvSpPr/>
          <p:nvPr/>
        </p:nvSpPr>
        <p:spPr>
          <a:xfrm>
            <a:off x="2303640" y="3166920"/>
            <a:ext cx="45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积分的微元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1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3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9:17Z</dcterms:modified>
  <cp:revision>72</cp:revision>
  <dc:subject/>
  <dc:title>幻灯片 1</dc:title>
</cp:coreProperties>
</file>